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53.png" ContentType="image/png"/>
  <Override PartName="/ppt/media/image1.wmf" ContentType="image/x-wmf"/>
  <Override PartName="/ppt/media/image31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6.png" ContentType="image/png"/>
  <Override PartName="/ppt/media/image38.png" ContentType="image/png"/>
  <Override PartName="/ppt/media/image41.wmf" ContentType="image/x-wmf"/>
  <Override PartName="/ppt/media/image30.wmf" ContentType="image/x-wmf"/>
  <Override PartName="/ppt/media/image39.png" ContentType="image/png"/>
  <Override PartName="/ppt/media/image42.wmf" ContentType="image/x-wmf"/>
  <Override PartName="/ppt/media/image40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25.png" ContentType="image/png"/>
  <Override PartName="/ppt/media/image35.png" ContentType="image/png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9.wmf" ContentType="image/x-wmf"/>
  <Override PartName="/ppt/media/image13.wmf" ContentType="image/x-wmf"/>
  <Override PartName="/ppt/media/image52.png" ContentType="image/png"/>
  <Override PartName="/ppt/media/image8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ED9-4D18-4D3A-BAD4-16294BE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033-7051-4BFD-AF42-6938CC76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B94-A612-484C-A05C-F0EDF85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A20-EA9D-440D-8C6B-922CF246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69C-620F-4D1C-9411-FAA0A387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796-D964-431B-A912-28C66B1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DFD-0E48-48B4-A72D-A5FF85D8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A6B-A3DB-4A4E-B14E-6A7EE939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672-DB0D-44C4-8318-6DC54EDD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0B3-FB0E-4960-8C0E-835A6D9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09D-0362-42B7-B01B-D06F30D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1EB-298F-4F4D-B827-AE110217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36C-5E01-4B2B-B102-3563C4957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mcce.fr/page.php?nav=fr/ephemerides/astronomie/Promenade/debutweb.php" TargetMode="External"/><Relationship Id="rId2" Type="http://schemas.openxmlformats.org/officeDocument/2006/relationships/hyperlink" Target="http://www.imcce.fr/page.php?nav=fr/ephemerides/astronomie/Promenade/debutweb.php" TargetMode="External"/><Relationship Id="rId3" Type="http://schemas.openxmlformats.org/officeDocument/2006/relationships/hyperlink" Target="http://www.imcce.fr/page.php?nav=fr/ephemerides/astronomie/Promenade/debutweb.php" TargetMode="External"/><Relationship Id="rId4" Type="http://schemas.openxmlformats.org/officeDocument/2006/relationships/hyperlink" Target="http://www.imcce.fr/page.php?nav=fr/ephemerides/astronomie/Promenade/debutweb.php" TargetMode="External"/><Relationship Id="rId5" Type="http://schemas.openxmlformats.org/officeDocument/2006/relationships/hyperlink" Target="http://www.imcce.fr/page.php?nav=fr/ephemerides/astronomie/Promenade/debutweb.php" TargetMode="External"/><Relationship Id="rId6" Type="http://schemas.openxmlformats.org/officeDocument/2006/relationships/hyperlink" Target="http://www.imcce.fr/page.php?nav=fr/ephemerides/astronomie/Promenade/debutweb.php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08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Voyage Terre M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 – Orbite dune s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6280" y="307800"/>
            <a:ext cx="73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d – Calcul sur tableur :</a:t>
            </a: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tableau des orbites des planètes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e  la sonde, demi grand axe, excentricité, pério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26828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orbites_sonde.xls]</a:t>
            </a:r>
            <a:r>
              <a:rPr b="0" lang="fr-FR" sz="1800" spc="-1" strike="noStrike">
                <a:solidFill>
                  <a:srgbClr val="dfdfff"/>
                </a:solidFill>
                <a:latin typeface="Arial"/>
              </a:rPr>
              <a:t> /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2200" y="214488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s périodes en années (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. 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2200" y="179244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lculer dans les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onnes E, F et G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du [Tableau I Planètes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2200" y="249228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s périodes obtenues par la 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loi de Kepler (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. F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2200" y="285264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s vitesses angulaires moyennes  (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. G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 des planè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00560" y="415620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</a:t>
            </a:r>
            <a:r>
              <a:rPr b="0" lang="en-US" sz="1800" spc="-1" strike="noStrike">
                <a:solidFill>
                  <a:srgbClr val="dfdfff"/>
                </a:solidFill>
                <a:latin typeface="Arial"/>
              </a:rPr>
              <a:t>[cellule C3]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contient la valeur de l’année sidérale en j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3920" y="3860640"/>
          <a:ext cx="456408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3860640"/>
                    <a:ext cx="456408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92200" y="335772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rmules de calcul ? Formules Tabl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6280" y="307800"/>
            <a:ext cx="74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d – Calcul sur tableur :</a:t>
            </a: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tableau des orbites des planètes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e  la sonde, demi grand axe, excentricité, pério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17440" y="3865680"/>
          <a:ext cx="457056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3865680"/>
                    <a:ext cx="457056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43600" y="18446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ériode calculé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629080" y="1773360"/>
          <a:ext cx="123012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9080" y="1773360"/>
                    <a:ext cx="12301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987800" y="18637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ormule de calcu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40360" y="2274840"/>
          <a:ext cx="207324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0360" y="2274840"/>
                    <a:ext cx="20732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003640" y="3867120"/>
          <a:ext cx="3765600" cy="641520"/>
        </p:xfrm>
        <a:graphic>
          <a:graphicData uri="http://schemas.openxmlformats.org/drawingml/2006/table">
            <a:tbl>
              <a:tblPr/>
              <a:tblGrid>
                <a:gridCol w="803160"/>
                <a:gridCol w="914400"/>
                <a:gridCol w="1108080"/>
                <a:gridCol w="93996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è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iod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né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ériod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cul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. ang.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̊/jou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. Ta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D8/$C$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ACINE(B8^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60/D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5058720" y="330372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ormules table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26828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orbites_sonde.xls]</a:t>
            </a:r>
            <a:r>
              <a:rPr b="0" lang="fr-FR" sz="1800" spc="-1" strike="noStrike">
                <a:solidFill>
                  <a:srgbClr val="dfdfff"/>
                </a:solidFill>
                <a:latin typeface="Arial"/>
              </a:rPr>
              <a:t> /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6280" y="307800"/>
            <a:ext cx="74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d – Calcul sur tableur :</a:t>
            </a: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tableau des orbites des planètes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e  la sonde, demi grand axe, excentricité, pério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04760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orbites_sonde.xls]</a:t>
            </a:r>
            <a:r>
              <a:rPr b="0" lang="fr-FR" sz="1800" spc="-1" strike="noStrike">
                <a:solidFill>
                  <a:srgbClr val="dfdfff"/>
                </a:solidFill>
                <a:latin typeface="Arial"/>
              </a:rPr>
              <a:t> /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35080" y="4197240"/>
          <a:ext cx="866916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4197240"/>
                    <a:ext cx="866916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592200" y="172404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 grand axe de la sonde (col. 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2200" y="144000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lculer dans les colonnes I, à O du [Tableau II Sonde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2200" y="200808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’excentricité (col. 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2200" y="229248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période de rotation par la 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èm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loi de Kepler (col.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2200" y="257652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période de rotation en jours (col.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286056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a durée du parcours (col.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200" y="314496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vitesse angulaire moyenne  (col.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2200" y="3429000"/>
            <a:ext cx="808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position angulaire 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de Mars au départ (col. 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2200" y="3789360"/>
            <a:ext cx="80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rmules de calcul ? Formules Tabl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6280" y="307800"/>
            <a:ext cx="74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d – Calcul sur tableur :</a:t>
            </a: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 t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ableau des orbites des planètes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e  la sonde, demi grand axe, excentricité, pério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17440" y="4221000"/>
          <a:ext cx="86756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4221000"/>
                    <a:ext cx="86756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6360" y="1077840"/>
          <a:ext cx="9144000" cy="2998800"/>
        </p:xfrm>
        <a:graphic>
          <a:graphicData uri="http://schemas.openxmlformats.org/drawingml/2006/table">
            <a:tbl>
              <a:tblPr/>
              <a:tblGrid>
                <a:gridCol w="684360"/>
                <a:gridCol w="1366560"/>
                <a:gridCol w="1644840"/>
                <a:gridCol w="1144440"/>
                <a:gridCol w="824040"/>
                <a:gridCol w="1139760"/>
                <a:gridCol w="720720"/>
                <a:gridCol w="1619280"/>
              </a:tblGrid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è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ntric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nde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nnné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nd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ou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ée parc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. ang.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yen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$B$10+B8)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$B$10-B8)/($B$10+B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RACINE(I8^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K8*$C$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8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60/L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MOD(180-M8*G8;36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7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é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pi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6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7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39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6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tu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48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7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1530360"/>
          <a:ext cx="113040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1530360"/>
                    <a:ext cx="11304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341440" y="1511280"/>
          <a:ext cx="85104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1440" y="1511280"/>
                    <a:ext cx="8510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718240" y="1530360"/>
          <a:ext cx="108900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8240" y="1530360"/>
                    <a:ext cx="10890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734240" y="1511280"/>
          <a:ext cx="125748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34240" y="1511280"/>
                    <a:ext cx="12574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63800" y="1587600"/>
          <a:ext cx="1074960" cy="3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3800" y="1587600"/>
                    <a:ext cx="10749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240" y="30780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IIe – Périodicité des fenêtres de 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928800"/>
            <a:ext cx="8064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configuration où l’angle 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vaut une valeur déterminée se reproduit périodiquement comme les conjonctions ou les oppositions de la planète avec le Soleil. C’est la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période synodiqu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1985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alcul de la période synodiqu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39640" y="2708280"/>
            <a:ext cx="8064720" cy="1025640"/>
            <a:chOff x="539640" y="2708280"/>
            <a:chExt cx="8064720" cy="1025640"/>
          </a:xfrm>
        </p:grpSpPr>
        <p:graphicFrame>
          <p:nvGraphicFramePr>
            <p:cNvPr id="192" name=""/>
            <p:cNvGraphicFramePr/>
            <p:nvPr/>
          </p:nvGraphicFramePr>
          <p:xfrm>
            <a:off x="6811920" y="3063960"/>
            <a:ext cx="496800" cy="66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11920" y="3063960"/>
                      <a:ext cx="49680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4" name=""/>
            <p:cNvSpPr/>
            <p:nvPr/>
          </p:nvSpPr>
          <p:spPr>
            <a:xfrm>
              <a:off x="539640" y="2708280"/>
              <a:ext cx="80647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Soit </a:t>
              </a:r>
              <a:r>
                <a:rPr b="0" i="1" lang="en-US" sz="1800" spc="-1" strike="noStrike">
                  <a:solidFill>
                    <a:srgbClr val="dfd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la période synodique, </a:t>
              </a:r>
              <a:r>
                <a:rPr b="0" i="1" lang="en-US" sz="1800" spc="-1" strike="noStrike">
                  <a:solidFill>
                    <a:srgbClr val="dfdfff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la période de rotation de la Terre et </a:t>
              </a:r>
              <a:r>
                <a:rPr b="0" i="1" lang="en-US" sz="1800" spc="-1" strike="noStrike">
                  <a:solidFill>
                    <a:srgbClr val="dfdfff"/>
                  </a:solidFill>
                  <a:latin typeface="Arial"/>
                </a:rPr>
                <a:t>P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celle de la planète. Leurs vitesses angulaires de rotation sont          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6012000" y="3063960"/>
            <a:ext cx="496800" cy="669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2000" y="3063960"/>
                      <a:ext cx="49680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7" name=""/>
          <p:cNvGrpSpPr/>
          <p:nvPr/>
        </p:nvGrpSpPr>
        <p:grpSpPr>
          <a:xfrm>
            <a:off x="1979640" y="4705200"/>
            <a:ext cx="5184720" cy="668160"/>
            <a:chOff x="1979640" y="4705200"/>
            <a:chExt cx="5184720" cy="668160"/>
          </a:xfrm>
        </p:grpSpPr>
        <p:sp>
          <p:nvSpPr>
            <p:cNvPr id="198" name=""/>
            <p:cNvSpPr/>
            <p:nvPr/>
          </p:nvSpPr>
          <p:spPr>
            <a:xfrm>
              <a:off x="1979640" y="4839840"/>
              <a:ext cx="51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Terre :                et la planète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5141880" y="4705200"/>
            <a:ext cx="7988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41880" y="4705200"/>
                      <a:ext cx="7988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"/>
            <p:cNvGraphicFramePr/>
            <p:nvPr/>
          </p:nvGraphicFramePr>
          <p:xfrm>
            <a:off x="2837160" y="4705200"/>
            <a:ext cx="798480" cy="66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37160" y="4705200"/>
                      <a:ext cx="79848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"/>
          <p:cNvSpPr/>
          <p:nvPr/>
        </p:nvSpPr>
        <p:spPr>
          <a:xfrm>
            <a:off x="539640" y="4005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n une périodique synodique, les deux planètes auront tourné chacune d’un angle que l’on peut calcul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240" y="30780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IIe – Périodicité des fenêtres de 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9640" y="2560680"/>
            <a:ext cx="5040360" cy="668160"/>
            <a:chOff x="539640" y="2560680"/>
            <a:chExt cx="5040360" cy="668160"/>
          </a:xfrm>
        </p:grpSpPr>
        <p:graphicFrame>
          <p:nvGraphicFramePr>
            <p:cNvPr id="206" name=""/>
            <p:cNvGraphicFramePr/>
            <p:nvPr/>
          </p:nvGraphicFramePr>
          <p:xfrm>
            <a:off x="3162240" y="2560680"/>
            <a:ext cx="2417760" cy="66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62240" y="2560680"/>
                      <a:ext cx="241776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539640" y="27115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  <a:ea typeface="Arial"/>
                </a:rPr>
                <a:t>planète extérieure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9640" y="5076720"/>
            <a:ext cx="5040360" cy="668520"/>
            <a:chOff x="539640" y="5076720"/>
            <a:chExt cx="5040360" cy="668520"/>
          </a:xfrm>
        </p:grpSpPr>
        <p:sp>
          <p:nvSpPr>
            <p:cNvPr id="210" name=""/>
            <p:cNvSpPr/>
            <p:nvPr/>
          </p:nvSpPr>
          <p:spPr>
            <a:xfrm>
              <a:off x="539640" y="5227560"/>
              <a:ext cx="50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planète extérieure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3564000" y="5076720"/>
            <a:ext cx="1252440" cy="668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5076720"/>
                      <a:ext cx="1252440" cy="6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"/>
          <p:cNvSpPr/>
          <p:nvPr/>
        </p:nvSpPr>
        <p:spPr>
          <a:xfrm>
            <a:off x="539640" y="1052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 corps le plus près du Soleil tourne plus vite et sur une période synodique aura fait un tour de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9640" y="1738440"/>
            <a:ext cx="5040360" cy="668160"/>
            <a:chOff x="539640" y="1738440"/>
            <a:chExt cx="5040360" cy="668160"/>
          </a:xfrm>
        </p:grpSpPr>
        <p:graphicFrame>
          <p:nvGraphicFramePr>
            <p:cNvPr id="215" name=""/>
            <p:cNvGraphicFramePr/>
            <p:nvPr/>
          </p:nvGraphicFramePr>
          <p:xfrm>
            <a:off x="3162240" y="1738440"/>
            <a:ext cx="241776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62240" y="1738440"/>
                      <a:ext cx="241776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539640" y="1889280"/>
              <a:ext cx="33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  <a:ea typeface="Arial"/>
                </a:rPr>
                <a:t>planète intérie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39640" y="4248000"/>
            <a:ext cx="5040360" cy="668520"/>
            <a:chOff x="539640" y="4248000"/>
            <a:chExt cx="5040360" cy="668520"/>
          </a:xfrm>
        </p:grpSpPr>
        <p:graphicFrame>
          <p:nvGraphicFramePr>
            <p:cNvPr id="219" name=""/>
            <p:cNvGraphicFramePr/>
            <p:nvPr/>
          </p:nvGraphicFramePr>
          <p:xfrm>
            <a:off x="3564000" y="4248000"/>
            <a:ext cx="1252440" cy="66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64000" y="4248000"/>
                      <a:ext cx="1252440" cy="6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539640" y="4398840"/>
              <a:ext cx="50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planète intérieure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39640" y="357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n simplifiant, la période synodique s’écri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250920" y="2349360"/>
          <a:ext cx="3317760" cy="26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331776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0920" y="2349360"/>
          <a:ext cx="3314520" cy="26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349360"/>
                    <a:ext cx="331452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393120" y="307800"/>
            <a:ext cx="44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II – Calcul des périodes syn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8366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dfdfff"/>
                </a:solidFill>
                <a:latin typeface="Arial"/>
              </a:rPr>
              <a:t>[orbites_sonde.xls] 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[Tableau III 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1268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ravail tabl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lculer les périodes synodiques des planè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29448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lanètes inférieures : =1/(1/B20-1/$C$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lanètes supérieures : =1/(1/$C$3-1/B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8360" y="234936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Formules tableu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47200" y="3078000"/>
            <a:ext cx="44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III - Tabulation et tracés des orb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de la Terre, de Mars et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9160" y="307800"/>
            <a:ext cx="59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a - Tabulation des orbites de la Terre, de 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869080" y="1125360"/>
            <a:ext cx="3095640" cy="2880000"/>
            <a:chOff x="5869080" y="1125360"/>
            <a:chExt cx="3095640" cy="2880000"/>
          </a:xfrm>
        </p:grpSpPr>
        <p:sp>
          <p:nvSpPr>
            <p:cNvPr id="235" name=""/>
            <p:cNvSpPr/>
            <p:nvPr/>
          </p:nvSpPr>
          <p:spPr>
            <a:xfrm>
              <a:off x="5869080" y="1125360"/>
              <a:ext cx="3095640" cy="288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5940360" y="1197000"/>
            <a:ext cx="2936880" cy="271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1197000"/>
                      <a:ext cx="2936880" cy="271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8" name=""/>
          <p:cNvSpPr/>
          <p:nvPr/>
        </p:nvSpPr>
        <p:spPr>
          <a:xfrm>
            <a:off x="612720" y="836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 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[orbites_sondes.xls], [feuille tracé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308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Terre dans la direction orig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259092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pas temporel de 1 jou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18124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pour des orbites circulai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8360" y="177336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sitions de la Terre et de Mars (en X e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300024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sur au moins une périodes pour chacune des planè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38988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u jour origi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4718160"/>
            <a:ext cx="59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Mars avec un angle 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ffff66"/>
                </a:solidFill>
                <a:latin typeface="Arial"/>
                <a:ea typeface="Arial"/>
              </a:rPr>
              <a:t>0,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(que l’on pourra faire vari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9160" y="307800"/>
            <a:ext cx="593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a - Tabulation des orbites de la Terre, de M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869080" y="765000"/>
            <a:ext cx="3095640" cy="2880000"/>
            <a:chOff x="5869080" y="765000"/>
            <a:chExt cx="3095640" cy="2880000"/>
          </a:xfrm>
        </p:grpSpPr>
        <p:sp>
          <p:nvSpPr>
            <p:cNvPr id="248" name=""/>
            <p:cNvSpPr/>
            <p:nvPr/>
          </p:nvSpPr>
          <p:spPr>
            <a:xfrm>
              <a:off x="5869080" y="765000"/>
              <a:ext cx="3095640" cy="288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"/>
            <p:cNvGraphicFramePr/>
            <p:nvPr/>
          </p:nvGraphicFramePr>
          <p:xfrm>
            <a:off x="5940360" y="836640"/>
            <a:ext cx="2936880" cy="271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836640"/>
                      <a:ext cx="2936880" cy="271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1" name=""/>
          <p:cNvSpPr/>
          <p:nvPr/>
        </p:nvSpPr>
        <p:spPr>
          <a:xfrm>
            <a:off x="612720" y="836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 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[orbites_sondes.xls], [feuille tracé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148428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rganisation de la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[feuille Tracés]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des orbites. Pour la terre et Mar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84148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onne B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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ngle de la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onne C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et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D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X, Y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coord.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234144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b7b8d9"/>
                </a:solidFill>
                <a:latin typeface="Arial"/>
              </a:rPr>
              <a:t>colonne A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: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umérotation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389088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onne 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ngle de 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onne F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et </a:t>
            </a:r>
            <a:r>
              <a:rPr b="0" lang="fr-FR" sz="1800" spc="-1" strike="noStrike">
                <a:solidFill>
                  <a:srgbClr val="b7b8d9"/>
                </a:solidFill>
                <a:latin typeface="Arial"/>
              </a:rPr>
              <a:t>G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X, Y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coord. 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4941720"/>
            <a:ext cx="71276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Cellules                                                                      nom de cel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ellule G2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’unité astronomique en km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ellule C10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 baseline="-25000">
                <a:solidFill>
                  <a:srgbClr val="ffff66"/>
                </a:solidFill>
                <a:latin typeface="Arial"/>
              </a:rPr>
              <a:t>0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angle origine de Mars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b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ellule C7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vitesse angulaire de la Terr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v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2333520"/>
                <a:tab algn="l" pos="3143160"/>
                <a:tab algn="l" pos="573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ellule D7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: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vitesse angulaire de Mars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v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0120" y="907920"/>
            <a:ext cx="7921440" cy="642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ne sonde spatiale, lancé dans le système solaire, moteurs éteints, suit une </a:t>
            </a:r>
            <a:r>
              <a:rPr b="1" i="1" lang="fr-FR" sz="1800" spc="-1" strike="noStrike">
                <a:solidFill>
                  <a:srgbClr val="ffff66"/>
                </a:solidFill>
                <a:latin typeface="Arial"/>
              </a:rPr>
              <a:t>orbite</a:t>
            </a:r>
            <a:r>
              <a:rPr b="1" i="1" lang="fr-FR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dfdfff"/>
                </a:solidFill>
                <a:latin typeface="Arial"/>
              </a:rPr>
              <a:t>keplérienne</a:t>
            </a: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 :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ne</a:t>
            </a: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dfdfff"/>
                </a:solidFill>
                <a:latin typeface="Arial"/>
              </a:rPr>
              <a:t>ellipse</a:t>
            </a: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ont le Soleil est à l’un des</a:t>
            </a: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fr-FR" sz="1800" spc="-1" strike="noStrike">
                <a:solidFill>
                  <a:srgbClr val="dfdfff"/>
                </a:solidFill>
                <a:latin typeface="Arial"/>
              </a:rPr>
              <a:t>foyers</a:t>
            </a:r>
            <a:r>
              <a:rPr b="0" lang="fr-FR" sz="1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3992400" cy="31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95240" y="2924280"/>
            <a:ext cx="247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éfini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demi-grand 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c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distance centre f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rayon vec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noma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4120" y="307800"/>
            <a:ext cx="88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a - Tabulation et tracés des orbites de la Terre, de Mars et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3429000"/>
            <a:ext cx="849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ormules des colonn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. B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ngle de la Terr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. C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bscisse de la Terr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X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. D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rdonnée de la Terr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Y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. 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ngle de Mar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. F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bscisse de Mar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X 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col. G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rdonnée de mars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Y 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53960" y="693720"/>
          <a:ext cx="64090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693720"/>
                    <a:ext cx="64090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50920" y="573408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ombre de jours de tab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ur la Ter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ur Ma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15200" y="371628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=A15*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15920" y="39909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=at*COS(RADIANS(B1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5920" y="426420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=at*SIN(RADIANS(B1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13400" y="4538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=A15*vam+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5920" y="48117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=am*COS(RADIANS(E1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16280" y="508464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=am*SIN(RADIANS(E15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59880" y="573408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5712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u moins une période sidé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r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366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712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rs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687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365120" y="692280"/>
          <a:ext cx="6413760" cy="25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5120" y="692280"/>
                    <a:ext cx="641376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1680" y="307800"/>
            <a:ext cx="49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b - Tabulation des orbites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1628640"/>
            <a:ext cx="51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sitions de la sonde  (en X e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angles 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uniformément répartis de 0 à 360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  <a:ea typeface="Arial"/>
              </a:rPr>
              <a:t>à raison d’un point par j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2720" y="836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ichier excel </a:t>
            </a:r>
            <a:r>
              <a:rPr b="0" i="1" lang="fr-FR" sz="1800" spc="-1" strike="noStrike">
                <a:solidFill>
                  <a:srgbClr val="b7b8d9"/>
                </a:solidFill>
                <a:latin typeface="Arial"/>
              </a:rPr>
              <a:t>[orbites_sondes.xls], [feuille tracé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414972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 chacun des  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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lcul de 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et des projections X et Y sur les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547640" y="4935600"/>
          <a:ext cx="16192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935600"/>
                    <a:ext cx="1619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708360" y="5162400"/>
          <a:ext cx="172728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5162400"/>
                    <a:ext cx="172728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859360" y="5162400"/>
          <a:ext cx="1598760" cy="34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9360" y="5162400"/>
                    <a:ext cx="15987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5867280" y="2568600"/>
            <a:ext cx="305604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2556000" y="3105000"/>
          <a:ext cx="2894040" cy="75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6000" y="3105000"/>
                    <a:ext cx="28940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63680" y="272556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Formule de </a:t>
            </a:r>
            <a:r>
              <a:rPr b="0" lang="fr-FR" sz="1800" spc="-1" strike="noStrike">
                <a:solidFill>
                  <a:srgbClr val="ffff66"/>
                </a:solidFill>
                <a:latin typeface="Symbol"/>
                <a:ea typeface="Symbol"/>
              </a:rPr>
              <a:t>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our le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fr-FR" sz="1800" spc="-1" strike="noStrike" baseline="30000">
                <a:solidFill>
                  <a:srgbClr val="ffff66"/>
                </a:solidFill>
                <a:latin typeface="Arial"/>
              </a:rPr>
              <a:t>èm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poi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91680" y="307800"/>
            <a:ext cx="49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b - Tabulation des orbites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353960" y="693720"/>
          <a:ext cx="64090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693720"/>
                    <a:ext cx="64090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324000" y="342900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ormules des colonn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b7b8d9"/>
                </a:solidFill>
                <a:latin typeface="Arial"/>
              </a:rPr>
              <a:t>col. H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ngle de la sond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b7b8d9"/>
                </a:solidFill>
                <a:latin typeface="Arial"/>
              </a:rPr>
              <a:t>col. I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ayon vecteur sond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b7b8d9"/>
                </a:solidFill>
                <a:latin typeface="Arial"/>
              </a:rPr>
              <a:t>col. J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bscisse sond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344600"/>
                <a:tab algn="l" pos="3857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b7b8d9"/>
                </a:solidFill>
                <a:latin typeface="Arial"/>
              </a:rPr>
              <a:t>col. K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Ordonnée sond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92720" y="48020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b7b8d9"/>
                </a:solidFill>
                <a:latin typeface="Arial"/>
              </a:rPr>
              <a:t>=I16*SIN(RADIANS(H1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5240" y="371628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b7b8d9"/>
                </a:solidFill>
                <a:latin typeface="Arial"/>
              </a:rPr>
              <a:t>=A16*$E$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48880" y="425916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b7b8d9"/>
                </a:solidFill>
                <a:latin typeface="Arial"/>
              </a:rPr>
              <a:t>=as*(1-$E$8*$E$8)/(1+$E$8*COS(RADIANS(H16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95960" y="45306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b7b8d9"/>
                </a:solidFill>
                <a:latin typeface="Arial"/>
              </a:rPr>
              <a:t>=I16*COS(RADIANS(H1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332000" y="692280"/>
          <a:ext cx="6413400" cy="25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692280"/>
                    <a:ext cx="64134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94560" y="30780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c - Graph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4221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ur les orbites, prendre les points les plus petits (taille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juster les dimensions du graphique de façon que les deux échelles X et Y soient les mê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83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ns un même graphique, trac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1284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- l’orbite de la Terre (colonnes C et D)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Ter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- l’orbite de Mars (colonnes F et G)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M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- la demi orbite de la sonde (colonne J et K)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Sond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- marquer les points avec leur la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Sonde dép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Sonde arrivé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Mars dépa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1720"/>
                <a:tab algn="l" pos="5286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érie “Terre arrivé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94560" y="307800"/>
            <a:ext cx="20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Ic - Graph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863720" y="798480"/>
          <a:ext cx="5405400" cy="56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798480"/>
                    <a:ext cx="54054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93840" y="30780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IVa – Vitesses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981000"/>
            <a:ext cx="792144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u départ et à l’arrivée, la sonde doit changer de vit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- au lancement, de la vitesse de la Terre à sa vitesse pour être au périhélie sur son or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- à l’arrivée, de sa vitesse à son aphélie à la vitesse de 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7640" y="24922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tesse sur une orbite képlérien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9280" y="2997360"/>
          <a:ext cx="37353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9280" y="2997360"/>
                    <a:ext cx="37353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11280" y="37893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G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cte de la gravitation,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demi grand axe de l’orbite, Terre, planète ou s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175280" y="4365720"/>
          <a:ext cx="2462040" cy="73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365720"/>
                    <a:ext cx="24620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727280" y="4508640"/>
          <a:ext cx="1900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7280" y="4508640"/>
                    <a:ext cx="1900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3840" y="30780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IVa – Vitesses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2160" y="100008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n peut aussi utiliser les form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4880" y="17082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tesse 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75600" y="230184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tesse au périhé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5960" y="30081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tesse à l’aphé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481560" y="1557360"/>
          <a:ext cx="218088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1560" y="1557360"/>
                    <a:ext cx="21808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3502080" y="2313000"/>
          <a:ext cx="213840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2080" y="2313000"/>
                    <a:ext cx="21384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3546360" y="2997360"/>
          <a:ext cx="20512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46360" y="2997360"/>
                    <a:ext cx="20512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90240" y="307800"/>
            <a:ext cx="55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Vb – Vitesses des planètes – calculs tab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2200" y="92880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9079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tiliser le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[tableau IV</a:t>
            </a:r>
            <a:r>
              <a:rPr b="0" lang="en-US" sz="1800" spc="-1" strike="noStrike">
                <a:solidFill>
                  <a:srgbClr val="dfdfff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 la </a:t>
            </a:r>
            <a:r>
              <a:rPr b="1" i="1" lang="en-US" sz="1800" spc="-1" strike="noStrike">
                <a:solidFill>
                  <a:srgbClr val="dfdfff"/>
                </a:solidFill>
                <a:latin typeface="Arial"/>
              </a:rPr>
              <a:t>[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2009880"/>
            <a:ext cx="734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. 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urs vitesses moyenn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. F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urs vitesses au périhél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. G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eurs vitesses   l’aphélie ?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585800" y="3592440"/>
          <a:ext cx="5938920" cy="25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3592440"/>
                    <a:ext cx="59389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4284720" y="2104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=2*PI()*C35/(D35*24*3600)*(1-C8^2)^(-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27640" y="25304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=E35*(1+C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27640" y="29289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=E35*(1-C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596960" y="3581280"/>
          <a:ext cx="592308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6960" y="3581280"/>
                    <a:ext cx="5923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468360" y="13413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 partir des caractéristiques des planètes du système solaire tr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70520" y="1773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ormule tab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91320" y="307800"/>
            <a:ext cx="54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Vb – Vitesses de la sonde – calculs tab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2200" y="928800"/>
            <a:ext cx="369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9079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Utiliser le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[tableau V</a:t>
            </a:r>
            <a:r>
              <a:rPr b="0" lang="en-US" sz="1800" spc="-1" strike="noStrike">
                <a:solidFill>
                  <a:srgbClr val="dfdfff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e la </a:t>
            </a:r>
            <a:r>
              <a:rPr b="1" i="1" lang="en-US" sz="1800" spc="-1" strike="noStrike">
                <a:solidFill>
                  <a:srgbClr val="dfdfff"/>
                </a:solidFill>
                <a:latin typeface="Arial"/>
              </a:rPr>
              <a:t>[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13622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êmes calculs pour les orbites des sondes par rapport aux planètes à attein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29000" y="25034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dfdfff"/>
                </a:solidFill>
                <a:latin typeface="Arial"/>
              </a:rPr>
              <a:t>=2*PI()*J35/(L35*24*3600)*(1-K35^2)^(-0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344840" y="28414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=M35*(1+K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29000" y="31734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=M35*(1-K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3645000"/>
            <a:ext cx="9036000" cy="2232000"/>
            <a:chOff x="0" y="3645000"/>
            <a:chExt cx="9036000" cy="2232000"/>
          </a:xfrm>
        </p:grpSpPr>
        <p:graphicFrame>
          <p:nvGraphicFramePr>
            <p:cNvPr id="344" name=""/>
            <p:cNvGraphicFramePr/>
            <p:nvPr/>
          </p:nvGraphicFramePr>
          <p:xfrm>
            <a:off x="0" y="3645000"/>
            <a:ext cx="4646520" cy="223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645000"/>
                      <a:ext cx="4646520" cy="22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6" name=""/>
            <p:cNvGraphicFramePr/>
            <p:nvPr/>
          </p:nvGraphicFramePr>
          <p:xfrm>
            <a:off x="4648320" y="3651480"/>
            <a:ext cx="4387680" cy="221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3651480"/>
                      <a:ext cx="4387680" cy="22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48" name=""/>
          <p:cNvGraphicFramePr/>
          <p:nvPr/>
        </p:nvGraphicFramePr>
        <p:xfrm>
          <a:off x="4788000" y="4200480"/>
          <a:ext cx="424476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200480"/>
                    <a:ext cx="4244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4327560" y="21938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=K8*$C$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5948280"/>
            <a:ext cx="8496000" cy="642600"/>
          </a:xfrm>
          <a:prstGeom prst="rect">
            <a:avLst/>
          </a:prstGeom>
          <a:noFill/>
          <a:ln w="9360">
            <a:solidFill>
              <a:srgbClr val="b7b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omparer les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vitesses de départ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et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d’arrivée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de la sonde aux vitesses de la Terre et de la planète à atteind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177336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ormule tabl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2133720"/>
            <a:ext cx="3959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dfd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dfdfff"/>
                </a:solidFill>
                <a:latin typeface="Arial"/>
              </a:rPr>
              <a:t>Col</a:t>
            </a:r>
            <a:r>
              <a:rPr b="0" i="1" lang="fr-FR" sz="1800" spc="-1" strike="noStrike">
                <a:solidFill>
                  <a:srgbClr val="dfdfff"/>
                </a:solidFill>
                <a:latin typeface="Arial"/>
              </a:rPr>
              <a:t>. L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a période (en jour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i="1" lang="fr-FR" sz="1800" spc="-1" strike="noStrike">
                <a:solidFill>
                  <a:srgbClr val="dfdfff"/>
                </a:solidFill>
                <a:latin typeface="Arial"/>
              </a:rPr>
              <a:t>Col. E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eurs vitesses moyenn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i="1" lang="fr-FR" sz="1800" spc="-1" strike="noStrike">
                <a:solidFill>
                  <a:srgbClr val="dfdfff"/>
                </a:solidFill>
                <a:latin typeface="Arial"/>
              </a:rPr>
              <a:t>Col. F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eurs vitesses au périhél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i="1" lang="fr-FR" sz="1800" spc="-1" strike="noStrike">
                <a:solidFill>
                  <a:srgbClr val="dfdfff"/>
                </a:solidFill>
                <a:latin typeface="Arial"/>
              </a:rPr>
              <a:t>Col. G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leurs vitesses   l’aphélie ?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771640" y="4941720"/>
            <a:ext cx="6264360" cy="336600"/>
            <a:chOff x="2771640" y="4941720"/>
            <a:chExt cx="6264360" cy="336600"/>
          </a:xfrm>
        </p:grpSpPr>
        <p:sp>
          <p:nvSpPr>
            <p:cNvPr id="355" name=""/>
            <p:cNvSpPr/>
            <p:nvPr/>
          </p:nvSpPr>
          <p:spPr>
            <a:xfrm>
              <a:off x="7862760" y="5092560"/>
              <a:ext cx="1173240" cy="179640"/>
            </a:xfrm>
            <a:prstGeom prst="rect">
              <a:avLst/>
            </a:prstGeom>
            <a:noFill/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71640" y="4941720"/>
              <a:ext cx="648000" cy="1796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1640" y="5099040"/>
              <a:ext cx="648000" cy="179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45640" y="2344680"/>
            <a:ext cx="74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66"/>
                </a:solidFill>
                <a:latin typeface="Curlz MT"/>
              </a:rPr>
              <a:t>Fin du voyag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3120" y="3078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I - Donner les lois de Ke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9079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-  Les planètes décrivent autour du soleil des orbites elliptiques dont le soleil occupe un des fo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2912760" cy="233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619280" y="1628640"/>
          <a:ext cx="1655640" cy="8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628640"/>
                    <a:ext cx="165564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9640" y="2781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I - Une ligne joignant une planète au soleil balaye des aires égales en des temps égaux (loi des air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749920" y="2852640"/>
            <a:ext cx="3214800" cy="1758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386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II - La période  de rotation d'une planète et le demi grand axe  de son orbite sont liés par la rel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35280" y="4508640"/>
          <a:ext cx="113328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4508640"/>
                    <a:ext cx="11332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9640" y="5624640"/>
          <a:ext cx="2616480" cy="80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5624640"/>
                    <a:ext cx="26164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3708360" y="5626080"/>
            <a:ext cx="5256360" cy="809640"/>
            <a:chOff x="3708360" y="5626080"/>
            <a:chExt cx="5256360" cy="809640"/>
          </a:xfrm>
        </p:grpSpPr>
        <p:graphicFrame>
          <p:nvGraphicFramePr>
            <p:cNvPr id="59" name=""/>
            <p:cNvGraphicFramePr/>
            <p:nvPr/>
          </p:nvGraphicFramePr>
          <p:xfrm>
            <a:off x="3708360" y="5626080"/>
            <a:ext cx="863640" cy="809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08360" y="5626080"/>
                      <a:ext cx="86364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4788000" y="5734080"/>
              <a:ext cx="41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est exprimé en années sidérales et </a:t>
              </a:r>
              <a:r>
                <a:rPr b="0" i="1" lang="en-US" sz="18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 en unités astronom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3480" y="3078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II – Orbite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2536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conomie d’énergie (carburant) -&gt; orbite képlérien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rofiter de la vitesse de la Terre sur son or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sonde sera lancée tangentiellement à l’orbite de la Ter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Éviter de changer de direction : trajectoire dictée par la grav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Faire coïncider l’arrivée de la sonde sur la trajectoire avec la position de la plan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5200" y="307800"/>
            <a:ext cx="82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IIa - Orbites de la Terre, de Mars (ou d’une planète) et de la son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9748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n simplifie en prenant des orbites circulaires pour les planè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3120" y="307800"/>
            <a:ext cx="29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IIa – Orbite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620640"/>
            <a:ext cx="4824360" cy="453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27320" y="1636560"/>
          <a:ext cx="447228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7320" y="1636560"/>
                    <a:ext cx="44722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192560" y="846000"/>
          <a:ext cx="4145040" cy="398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2560" y="846000"/>
                    <a:ext cx="41450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025880" y="1432080"/>
          <a:ext cx="3486240" cy="26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25880" y="1432080"/>
                    <a:ext cx="34862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47840" y="5583240"/>
            <a:ext cx="78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ur une planète inférieure, on intervertit le rôle de la Terre et de la planè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9200" y="3854520"/>
            <a:ext cx="2044440" cy="766080"/>
            <a:chOff x="619200" y="3854520"/>
            <a:chExt cx="2044440" cy="766080"/>
          </a:xfrm>
        </p:grpSpPr>
        <p:sp>
          <p:nvSpPr>
            <p:cNvPr id="76" name=""/>
            <p:cNvSpPr/>
            <p:nvPr/>
          </p:nvSpPr>
          <p:spPr>
            <a:xfrm>
              <a:off x="619200" y="385452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Orbite de la so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9960" y="4214880"/>
              <a:ext cx="147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ffff66"/>
                  </a:solidFill>
                  <a:latin typeface="Arial"/>
                </a:rPr>
                <a:t>Sonde</a:t>
              </a:r>
              <a:r>
                <a:rPr b="0" lang="fr-FR" sz="1800" spc="-1" strike="noStrike">
                  <a:solidFill>
                    <a:srgbClr val="ffff66"/>
                  </a:solidFill>
                  <a:latin typeface="Arial"/>
                </a:rPr>
                <a:t>    </a:t>
              </a:r>
              <a:r>
                <a:rPr b="0" i="1" lang="fr-FR" sz="18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ffff66"/>
                  </a:solidFill>
                  <a:latin typeface="Arial"/>
                </a:rPr>
                <a:t>So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18480" y="1549440"/>
            <a:ext cx="1969920" cy="772560"/>
            <a:chOff x="618480" y="1549440"/>
            <a:chExt cx="1969920" cy="772560"/>
          </a:xfrm>
        </p:grpSpPr>
        <p:sp>
          <p:nvSpPr>
            <p:cNvPr id="79" name=""/>
            <p:cNvSpPr/>
            <p:nvPr/>
          </p:nvSpPr>
          <p:spPr>
            <a:xfrm>
              <a:off x="618480" y="15494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Orbite de la Ter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20960" y="1916280"/>
              <a:ext cx="13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ffff66"/>
                  </a:solidFill>
                  <a:latin typeface="Arial"/>
                </a:rPr>
                <a:t>Terre</a:t>
              </a:r>
              <a:r>
                <a:rPr b="0" lang="fr-FR" sz="1800" spc="-1" strike="noStrike">
                  <a:solidFill>
                    <a:srgbClr val="ffff66"/>
                  </a:solidFill>
                  <a:latin typeface="Arial"/>
                </a:rPr>
                <a:t>    </a:t>
              </a:r>
              <a:r>
                <a:rPr b="0" i="1" lang="fr-FR" sz="18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ffff66"/>
                  </a:solidFill>
                  <a:latin typeface="Arial"/>
                </a:rPr>
                <a:t>Ter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19200" y="2700360"/>
            <a:ext cx="2654280" cy="839160"/>
            <a:chOff x="619200" y="2700360"/>
            <a:chExt cx="2654280" cy="839160"/>
          </a:xfrm>
        </p:grpSpPr>
        <p:sp>
          <p:nvSpPr>
            <p:cNvPr id="82" name=""/>
            <p:cNvSpPr/>
            <p:nvPr/>
          </p:nvSpPr>
          <p:spPr>
            <a:xfrm>
              <a:off x="619200" y="2700360"/>
              <a:ext cx="26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Orbite de Mars (planèt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6640" y="3133800"/>
              <a:ext cx="1303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r>
                <a:rPr b="0" lang="fr-FR" sz="1800" spc="-1" strike="noStrike" baseline="-25000">
                  <a:solidFill>
                    <a:srgbClr val="ffff66"/>
                  </a:solidFill>
                  <a:latin typeface="Arial"/>
                </a:rPr>
                <a:t>Mars</a:t>
              </a:r>
              <a:r>
                <a:rPr b="0" lang="fr-FR" sz="1800" spc="-1" strike="noStrike">
                  <a:solidFill>
                    <a:srgbClr val="ffff66"/>
                  </a:solidFill>
                  <a:latin typeface="Arial"/>
                </a:rPr>
                <a:t>    </a:t>
              </a:r>
              <a:r>
                <a:rPr b="0" i="1" lang="fr-FR" sz="18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ffff66"/>
                  </a:solidFill>
                  <a:latin typeface="Arial"/>
                </a:rPr>
                <a:t>M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9880" y="30780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IIb – Caractéristiques de l’orbite de la s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98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Demi-grand axe sond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5938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Excentricité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5244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ériode sidérale sond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454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emps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510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itesse angulaire moyenne (par j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60400" y="1413000"/>
          <a:ext cx="281160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13000"/>
                    <a:ext cx="281160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195640" y="2438280"/>
          <a:ext cx="131760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438280"/>
                    <a:ext cx="13176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11640" y="2457360"/>
          <a:ext cx="132084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457360"/>
                    <a:ext cx="132084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247920" y="4292640"/>
          <a:ext cx="1684440" cy="66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7920" y="4292640"/>
                    <a:ext cx="16844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6013440" y="1844640"/>
            <a:ext cx="3095640" cy="3168720"/>
            <a:chOff x="6013440" y="1844640"/>
            <a:chExt cx="3095640" cy="3168720"/>
          </a:xfrm>
        </p:grpSpPr>
        <p:sp>
          <p:nvSpPr>
            <p:cNvPr id="99" name=""/>
            <p:cNvSpPr/>
            <p:nvPr/>
          </p:nvSpPr>
          <p:spPr>
            <a:xfrm>
              <a:off x="6013440" y="1844640"/>
              <a:ext cx="3095640" cy="316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126120" y="2553840"/>
            <a:ext cx="2869560" cy="167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6120" y="2553840"/>
                      <a:ext cx="2869560" cy="167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6232320" y="2001960"/>
            <a:ext cx="2659680" cy="2780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32320" y="2001960"/>
                      <a:ext cx="2659680" cy="278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125400" y="2411280"/>
            <a:ext cx="2237040" cy="186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25400" y="2411280"/>
                      <a:ext cx="2237040" cy="186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6" name=""/>
          <p:cNvGraphicFramePr/>
          <p:nvPr/>
        </p:nvGraphicFramePr>
        <p:xfrm>
          <a:off x="3276720" y="3429000"/>
          <a:ext cx="1662120" cy="474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76720" y="3429000"/>
                    <a:ext cx="16621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4746600" y="5348160"/>
            <a:ext cx="3770280" cy="733680"/>
            <a:chOff x="4746600" y="5348160"/>
            <a:chExt cx="3770280" cy="733680"/>
          </a:xfrm>
        </p:grpSpPr>
        <p:graphicFrame>
          <p:nvGraphicFramePr>
            <p:cNvPr id="109" name=""/>
            <p:cNvGraphicFramePr/>
            <p:nvPr/>
          </p:nvGraphicFramePr>
          <p:xfrm>
            <a:off x="4746600" y="5348160"/>
            <a:ext cx="1944720" cy="7336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746600" y="5348160"/>
                      <a:ext cx="1944720" cy="73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7164360" y="55278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66"/>
                  </a:solidFill>
                  <a:latin typeface="Arial"/>
                </a:rPr>
                <a:t>P en jo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0960" y="307800"/>
            <a:ext cx="49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IIc - Position de la planète au l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013440" y="1844640"/>
            <a:ext cx="3095640" cy="3168720"/>
            <a:chOff x="6013440" y="1844640"/>
            <a:chExt cx="3095640" cy="3168720"/>
          </a:xfrm>
        </p:grpSpPr>
        <p:sp>
          <p:nvSpPr>
            <p:cNvPr id="114" name=""/>
            <p:cNvSpPr/>
            <p:nvPr/>
          </p:nvSpPr>
          <p:spPr>
            <a:xfrm>
              <a:off x="6013440" y="1844640"/>
              <a:ext cx="3095640" cy="316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6126120" y="2553840"/>
            <a:ext cx="2869560" cy="167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26120" y="2553840"/>
                      <a:ext cx="2869560" cy="167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6232320" y="2001960"/>
            <a:ext cx="2659680" cy="2780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320" y="2001960"/>
                      <a:ext cx="2659680" cy="278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6125400" y="2411280"/>
            <a:ext cx="2237040" cy="186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25400" y="2411280"/>
                      <a:ext cx="2237040" cy="186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1" name=""/>
          <p:cNvSpPr/>
          <p:nvPr/>
        </p:nvSpPr>
        <p:spPr>
          <a:xfrm>
            <a:off x="466560" y="191628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ngle de rotation de la planète durant le parcou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2421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position de la planète est telle que durant le trajet de la sonde, sa rotation l’amène à l’aphélie de la sonde (périhélie pour une planète inférie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12840" y="3716280"/>
          <a:ext cx="278604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12840" y="3716280"/>
                    <a:ext cx="2786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66560" y="4437000"/>
            <a:ext cx="597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osition de la planète au départ (angle 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SM</a:t>
            </a:r>
            <a:r>
              <a:rPr b="0" i="1" lang="en-US" sz="1800" spc="-1" strike="noStrike" baseline="-25000">
                <a:solidFill>
                  <a:srgbClr val="ffff66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66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ffff66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5013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La sonde ayant fait la moitié de son orbite (180̊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46280" y="5516640"/>
          <a:ext cx="187812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6280" y="5516640"/>
                    <a:ext cx="1878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466560" y="907920"/>
            <a:ext cx="8426520" cy="2494080"/>
            <a:chOff x="466560" y="907920"/>
            <a:chExt cx="8426520" cy="2494080"/>
          </a:xfrm>
        </p:grpSpPr>
        <p:graphicFrame>
          <p:nvGraphicFramePr>
            <p:cNvPr id="130" name=""/>
            <p:cNvGraphicFramePr/>
            <p:nvPr/>
          </p:nvGraphicFramePr>
          <p:xfrm>
            <a:off x="7215120" y="3105000"/>
            <a:ext cx="517680" cy="297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215120" y="3105000"/>
                      <a:ext cx="51768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466560" y="907920"/>
              <a:ext cx="842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Pour que Mars (ou la planète) soit au rendez-vous lorsque la sonde arrive, il faut qu’au lancement la Terre et Mars soit dans la bonne configuration angulai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7523280" y="2436840"/>
            <a:ext cx="993600" cy="958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23280" y="2436840"/>
                      <a:ext cx="993600" cy="95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7237440" y="284796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315080" y="150480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(lapalissade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a6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6280" y="307800"/>
            <a:ext cx="736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IId – Calcul sur tableur :</a:t>
            </a:r>
            <a:r>
              <a:rPr b="1" i="1" lang="fr-FR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tableau des orbites des planètes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9900"/>
                </a:solidFill>
                <a:latin typeface="Arial"/>
              </a:rPr>
              <a:t>de  la sonde, demi grand axe, excentricité, périod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2200" y="1865160"/>
            <a:ext cx="808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Utiliser fichier Excel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orbites_sonde.xls]</a:t>
            </a:r>
            <a:r>
              <a:rPr b="0" lang="fr-FR" sz="1800" spc="-1" strike="noStrike">
                <a:solidFill>
                  <a:srgbClr val="dfdfff"/>
                </a:solidFill>
                <a:latin typeface="Arial"/>
              </a:rPr>
              <a:t> /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[feuille Orbit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n trouvera dans le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dfdfff"/>
                </a:solidFill>
                <a:latin typeface="Arial"/>
              </a:rPr>
              <a:t>tableau I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 les </a:t>
            </a:r>
            <a:r>
              <a:rPr b="1" i="1" lang="fr-FR" sz="1800" spc="-1" strike="noStrike">
                <a:solidFill>
                  <a:srgbClr val="ffff66"/>
                </a:solidFill>
                <a:latin typeface="Arial"/>
              </a:rPr>
              <a:t>Caractéristiques des planèt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ù retrouver les valeurs actuelles adoptées par l’U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Union Astronomique Internationale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A l’IMC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mcce.fr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phemerides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astronomie/Promenade/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ebutweb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7:03:32Z</dcterms:created>
  <dc:creator>phm</dc:creator>
  <dc:description/>
  <dc:language>en-US</dc:language>
  <cp:lastModifiedBy>phm</cp:lastModifiedBy>
  <dcterms:modified xsi:type="dcterms:W3CDTF">2007-10-16T21:39:10Z</dcterms:modified>
  <cp:revision>15</cp:revision>
  <dc:subject/>
  <dc:title>Voyage Terre Mars</dc:title>
</cp:coreProperties>
</file>