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7DF29-FD2A-4614-8A43-B3E0C153A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1BAB-FBC6-4DDC-8D8C-D2346F54D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9A4F-C4C5-43DA-963F-F57C6A4FB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6D8E-67B2-41CB-B77E-13E63A132E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03A3-F8F1-42ED-B765-51DDC7A3A7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0B99-497A-4742-8BAE-C6D1932A8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F623-B757-42F5-97D1-A8DC5D016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A685-6F56-4616-AD8E-474E4E965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14D4-116D-4C7A-8EB6-A0E70D042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61F4-FC40-40E1-B3A0-BC55BE9F3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79CD-543E-4792-B04B-CEB858C76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FC4F-25B9-4565-8609-7845DEB19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657b"/>
            </a:gs>
            <a:gs pos="100000">
              <a:srgbClr val="0d2d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93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9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93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d9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93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d9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93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ffd9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93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ffd9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93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ffd9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93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ffd9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93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476760"/>
            <a:ext cx="19047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A62D-014C-4378-8C3E-A989F1261C3C}" type="slidenum">
              <a:rPr b="0" lang="en-US" sz="1400" spc="-1" strike="noStrike">
                <a:solidFill>
                  <a:srgbClr val="ff996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657b"/>
            </a:gs>
            <a:gs pos="100000">
              <a:srgbClr val="0d2d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849320" y="-990720"/>
            <a:ext cx="6147000" cy="7239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89840"/>
            <a:ext cx="8534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935"/>
                </a:solidFill>
                <a:latin typeface="Times New Roman"/>
              </a:rPr>
              <a:t>Parallaxe des étoiles</a:t>
            </a:r>
            <a:endParaRPr b="0" lang="en-US" sz="4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82640" y="626256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Observatoire de Lyon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0" y="36576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935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ffd93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657b"/>
            </a:gs>
            <a:gs pos="100000">
              <a:srgbClr val="0d2d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2000" y="384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935"/>
                </a:solidFill>
                <a:latin typeface="Times New Roman"/>
              </a:rPr>
              <a:t>Manipulation</a:t>
            </a:r>
            <a:endParaRPr b="0" lang="en-US" sz="2400" spc="-1" strike="noStrike">
              <a:solidFill>
                <a:srgbClr val="ffd935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5257800" cy="2974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6600" y="106668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35"/>
                </a:solidFill>
                <a:latin typeface="Times New Roman"/>
              </a:rPr>
              <a:t>Calcul de la parallaxe de l'étoile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766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- La projection décrit une ellipse sur le fond du ciel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9225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- La grandeur du grand axe mesurée dans l'échelle de la carte (secondes d'arc) donne le double de la parallaxe de l'étoile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3000" y="5000760"/>
            <a:ext cx="47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- Comment varie l'ellipse si l'étoile est plus près ?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9400" y="5805360"/>
            <a:ext cx="70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- Comment varie l'ellipse si l'étoile est plus haut au-dessus de l'écliptique ?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rallaxe d'un astre (simulation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5843-CB40-48E0-84A2-DD9E2CC562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657b"/>
            </a:gs>
            <a:gs pos="100000">
              <a:srgbClr val="0d2d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767400" y="32004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935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76320" y="2057400"/>
            <a:ext cx="5410440" cy="3048120"/>
          </a:xfrm>
          <a:prstGeom prst="rect">
            <a:avLst/>
          </a:prstGeom>
          <a:noFill/>
          <a:ln w="9360">
            <a:solidFill>
              <a:srgbClr val="ffd9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rallaxe d'un astre (simulation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4E4C-559C-4454-B761-A2D434862B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657b"/>
            </a:gs>
            <a:gs pos="100000">
              <a:srgbClr val="0d2d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089960" y="2895480"/>
            <a:ext cx="9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d935"/>
                </a:solidFill>
                <a:latin typeface="Arial Narrow"/>
              </a:rPr>
              <a:t>Fin</a:t>
            </a:r>
            <a:endParaRPr b="0" lang="en-US" sz="54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rallaxe d'un astre (simulation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479D-16F8-4BB3-8095-4365CCD90B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657b"/>
            </a:gs>
            <a:gs pos="100000">
              <a:srgbClr val="0d2d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45600" y="345960"/>
            <a:ext cx="485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935"/>
                </a:solidFill>
                <a:latin typeface="Times New Roman"/>
              </a:rPr>
              <a:t>Parallaxe et distance d’une étoile</a:t>
            </a:r>
            <a:endParaRPr b="0" lang="en-US" sz="2400" spc="-1" strike="noStrike">
              <a:solidFill>
                <a:srgbClr val="ffd935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Simulation d’observations et de mesures au moyen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de la maquette Terre-plan de l’écliptique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38098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fr-FR" sz="1800" spc="-1" strike="noStrike">
                <a:solidFill>
                  <a:srgbClr val="ffd935"/>
                </a:solidFill>
                <a:latin typeface="Times New Roman"/>
              </a:rPr>
              <a:t>A partir de deux points d’observation séparés d’une distance convenable (la base), on mesure les angles de directions chaque direction observateur-objet avec la direction donnée par les deux observateurs. 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2124000"/>
            <a:ext cx="6218280" cy="2905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1640" y="1566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La méthode la plus simple pour mesurer la distance d’un objet inaccessible, est de faire de la triangulation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410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La connaissance de la distance entre les deux points et des angles permet de calculer la distance du point visé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rallaxe d'un astre (simulation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F299-F602-4431-995E-3E382C89D7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657b"/>
            </a:gs>
            <a:gs pos="100000">
              <a:srgbClr val="0d2d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41911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d935"/>
                </a:solidFill>
                <a:latin typeface="Times New Roman"/>
              </a:rPr>
              <a:t>les angles se mesurent par rapport au fond des étoiles lointaines dont on connait les positions angulaires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4952880" cy="5830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15238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On fait de même pour mesurer les distances des étoiles proches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95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La base est donnée par la position de la Terre à 6 mois d’intervalle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rallaxe d'un astre (simulation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4E9B-2F0A-4DB1-BDA0-3379594723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657b"/>
            </a:gs>
            <a:gs pos="100000">
              <a:srgbClr val="0d2d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2000" y="384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935"/>
                </a:solidFill>
                <a:latin typeface="Times New Roman"/>
              </a:rPr>
              <a:t>Manipulation</a:t>
            </a:r>
            <a:endParaRPr b="0" lang="en-US" sz="2400" spc="-1" strike="noStrike">
              <a:solidFill>
                <a:srgbClr val="ffd935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5257800" cy="2974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1263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La maquette permet de simuler la révolution annuelle de la Terre autour du Soleil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9178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L’étoile proche est représentée par le point lumineux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5720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Le champ d’étoiles lointaines est représenté par l’image d’un champ d’étoiles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rallaxe d'un astre (simulation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8115-02D6-4C6A-BE8A-7613D24D6E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657b"/>
            </a:gs>
            <a:gs pos="100000">
              <a:srgbClr val="0d2d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10320" y="457200"/>
            <a:ext cx="10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935"/>
                </a:solidFill>
                <a:latin typeface="Times New Roman"/>
              </a:rPr>
              <a:t>Champ</a:t>
            </a:r>
            <a:endParaRPr b="0" lang="en-US" sz="2000" spc="-1" strike="noStrike">
              <a:solidFill>
                <a:srgbClr val="ffd935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935"/>
                </a:solidFill>
                <a:latin typeface="Times New Roman"/>
              </a:rPr>
              <a:t>d'étoiles</a:t>
            </a:r>
            <a:endParaRPr b="0" lang="en-US" sz="20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80880"/>
            <a:ext cx="5943600" cy="5943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935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rallaxe d'un astre (simulation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B180D-2EDE-449D-9555-27AAFB6D63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657b"/>
            </a:gs>
            <a:gs pos="100000">
              <a:srgbClr val="0d2d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2000" y="384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935"/>
                </a:solidFill>
                <a:latin typeface="Times New Roman"/>
              </a:rPr>
              <a:t>Manipulation</a:t>
            </a:r>
            <a:endParaRPr b="0" lang="en-US" sz="2400" spc="-1" strike="noStrike">
              <a:solidFill>
                <a:srgbClr val="ffd935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5257800" cy="2974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1143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On donne la carte du champ d’étoiles et un repère destiné à faciliter les mesures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rallaxe d'un astre (simulation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5DBB-C5CB-42BD-B4FA-FD7B0AD307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657b"/>
            </a:gs>
            <a:gs pos="100000">
              <a:srgbClr val="0d2d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403200"/>
            <a:ext cx="6781680" cy="5978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122960" y="45720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935"/>
                </a:solidFill>
                <a:latin typeface="Times New Roman"/>
              </a:rPr>
              <a:t>Carte du champ</a:t>
            </a:r>
            <a:endParaRPr b="0" lang="en-US" sz="2000" spc="-1" strike="noStrike">
              <a:solidFill>
                <a:srgbClr val="ffd935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935"/>
                </a:solidFill>
                <a:latin typeface="Times New Roman"/>
              </a:rPr>
              <a:t>d'étoiles</a:t>
            </a:r>
            <a:endParaRPr b="0" lang="en-US" sz="20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rallaxe d'un astre (simulation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802B-A195-461D-9003-B0ED6D53C5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657b"/>
            </a:gs>
            <a:gs pos="100000">
              <a:srgbClr val="0d2d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4495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La projection sur le fond du ciel de la ligne de visée Terre-étoile se fait en repérant le point de la carte où arrive la ligne de visée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2000" y="384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935"/>
                </a:solidFill>
                <a:latin typeface="Times New Roman"/>
              </a:rPr>
              <a:t>Manipulation</a:t>
            </a:r>
            <a:endParaRPr b="0" lang="en-US" sz="2400" spc="-1" strike="noStrike">
              <a:solidFill>
                <a:srgbClr val="ffd935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5257800" cy="2974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12952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On donne la carte du champ d’étoiles et un repère destiné à faciliter les mesures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819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On identifie les étoiles du champs avec celles de la carte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rallaxe d'un astre (simulation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3B40-D22C-4EF0-9D2E-2E04FC42B6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657b"/>
            </a:gs>
            <a:gs pos="100000">
              <a:srgbClr val="0d2d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2000" y="384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935"/>
                </a:solidFill>
                <a:latin typeface="Times New Roman"/>
              </a:rPr>
              <a:t>Manipulation</a:t>
            </a:r>
            <a:endParaRPr b="0" lang="en-US" sz="2400" spc="-1" strike="noStrike">
              <a:solidFill>
                <a:srgbClr val="ffd935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5257800" cy="2974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580536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5 - Quand ont lieu ces maxima d’amplitude ?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760" y="1066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35"/>
                </a:solidFill>
                <a:latin typeface="Times New Roman"/>
              </a:rPr>
              <a:t>Observer et mesurer :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7668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1 - La Terre parcourant son orbite, repérer la trajectoire que décrit la projection Terre-étoile sur le fond du ciel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844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2 - Quelle est la forme de cette trajectoire ?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9225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3 - Repérer les positions de la plus grande amplitude et les reporter sur la carte. Refaire la mesure pour vérifier la bonne lecture de la visée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6240" y="500076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935"/>
                </a:solidFill>
                <a:latin typeface="Times New Roman"/>
              </a:rPr>
              <a:t>4 - Estimer la précision des mesures.</a:t>
            </a:r>
            <a:endParaRPr b="0" lang="en-US" sz="1800" spc="-1" strike="noStrike">
              <a:solidFill>
                <a:srgbClr val="ffd935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rallaxe d'un astre (simulation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8D0E-607E-4B77-835A-1E81E846BB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6:52:58Z</dcterms:created>
  <dc:creator>duschnoc</dc:creator>
  <dc:description/>
  <dc:language>en-US</dc:language>
  <cp:lastModifiedBy>Merlin</cp:lastModifiedBy>
  <cp:lastPrinted>2004-01-27T04:54:06Z</cp:lastPrinted>
  <dcterms:modified xsi:type="dcterms:W3CDTF">2004-01-27T06:00:39Z</dcterms:modified>
  <cp:revision>30</cp:revision>
  <dc:subject/>
  <dc:title>Le passage de Vénus devant le Soleil</dc:title>
</cp:coreProperties>
</file>